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S. Nguyễn Minh Qua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/04/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ung tâm Công nghệ Hóa họ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D79C8-ABD1-4ED5-88BF-F3FB1CD683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S. Nguyễn Minh Qua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8D20E-4CDF-4651-8EF5-632B516F57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Date Placeholder 1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.04.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Footer Placeholder 2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ung Tâm Công nghệ Hóa họ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10794-0B2B-4377-8A1A-5D4C6B805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098DC-2842-4BFB-9374-DD9DBADB0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E2F0C-1BC6-4057-B1CB-70FC124CA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DEF28-0594-4918-A829-5999672A3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0234F-547F-4366-BCD6-93B09337A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73318-97B9-4329-90A3-1D075A4C8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B6788-3D68-409B-8305-D50AEFF3D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41389-886D-4832-BB3D-FE9D3760C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AC648-5233-4E9B-A691-1C33416CD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47506-5775-4109-8BF9-F57708470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7EB03-C241-4F45-B789-A06F36BC6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A51CA-B543-4BA7-8EF0-0F66F9E1A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47B5E-5A14-4855-8378-A17BC1D8F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705B8-A8EB-4854-AE23-A00928726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036E8-18CD-4EE5-A487-DAEA38CFB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D5391-4D4C-4DE8-A849-F7F7154F8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25CCD-A758-4830-AA73-5F3E8CD52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F6377E-69AE-4F0B-8E2F-95A809D7E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AE2137-FDA3-4487-A627-1163868CD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748140-F54D-4285-8D29-BC87C0EB1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A1AFE8-0C0E-4E72-96D6-E344C8AFD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8F5AFC-D5BE-4B4F-90B0-6A4B4BF07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6C69D-D18E-4407-A120-AAEDECDF1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16965E-2102-4C15-8553-AE1D6A97B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496D0F-0DE2-4F86-BA78-6217546FB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D1F2E2-71E4-46DD-8E20-69A48B75F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9BB15E-E36C-4C5B-B39B-14A19010B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5C5C90-F881-4B62-B447-4E7131904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81283E-5F6C-4339-AC5C-35CDED87E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E26E18-3A06-4596-884A-5DEBE1C8E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3D2C6-0407-45E0-83E2-0785127BF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85E33-188A-40BB-95CF-6D12187B0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C4821-78FF-4BC0-AFD5-883BF7858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4FAB2-AD8B-460F-90CA-CC22CDABC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52393-6A7A-49EF-B0E3-13665FFA0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41473-F19B-44A6-A771-F0C480C5A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318960"/>
            <a:ext cx="7772400" cy="6098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010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9800" y="6427800"/>
            <a:ext cx="226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27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39640" y="6427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281E80A1-B3AD-4F23-959E-54C1ACDFC5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of 5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42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43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46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9D6BF-0627-4364-B01B-2ADD34709DB9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90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93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AD475-A07A-4B3A-8CF9-C479720B635F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11"/>
          <p:cNvSpPr/>
          <p:nvPr/>
        </p:nvSpPr>
        <p:spPr>
          <a:xfrm>
            <a:off x="7632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A0ADB-ECF7-426D-A659-F22200862B98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4800" y="1269360"/>
            <a:ext cx="6455520" cy="1346760"/>
          </a:xfrm>
          <a:prstGeom prst="rect">
            <a:avLst/>
          </a:prstGeom>
          <a:solidFill>
            <a:srgbClr val="adffad"/>
          </a:solidFill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CHƯƠNG 5</a:t>
            </a:r>
            <a:endParaRPr b="1" lang="en-US" sz="40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45" name="Rectangle 3"/>
          <p:cNvSpPr/>
          <p:nvPr/>
        </p:nvSpPr>
        <p:spPr>
          <a:xfrm>
            <a:off x="1201680" y="3576600"/>
            <a:ext cx="6892920" cy="2017800"/>
          </a:xfrm>
          <a:prstGeom prst="rect">
            <a:avLst/>
          </a:prstGeom>
          <a:solidFill>
            <a:srgbClr val="ffebc2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8640" bIns="365760" anchor="b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CÂN BẰNG PHA</a:t>
            </a:r>
            <a:br>
              <a:rPr sz="4000"/>
            </a:b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HỆ MỘT CẤU TỬ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Slide Number Placeholder 6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EAACD-1819-4230-ACEC-9DFAC0FE3222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7836120" cy="214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ét cân bằng chất lỏng A với hơi của nó (P) khi có mặt các chất khí (P’) khác gây ra áp suất tổng (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=  P  +  P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hi áp suất tổng thay đổi, hệ sẽ chuyển sang trạng thái mới. Phương trình sử dụng tính toán sự thay đổi áp suất đó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3" name="Object 8"/>
              <p:cNvSpPr txBox="1"/>
              <p:nvPr/>
            </p:nvSpPr>
            <p:spPr>
              <a:xfrm>
                <a:off x="2852640" y="4983120"/>
                <a:ext cx="2457720" cy="87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n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V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</m:num>
                      <m:den>
                        <m:r>
                          <m:t xml:space="preserve">R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4" name="Rectangle 10"/>
          <p:cNvSpPr/>
          <p:nvPr/>
        </p:nvSpPr>
        <p:spPr>
          <a:xfrm>
            <a:off x="5754600" y="4657680"/>
            <a:ext cx="3065400" cy="1860840"/>
          </a:xfrm>
          <a:prstGeom prst="rect">
            <a:avLst/>
          </a:prstGeom>
          <a:solidFill>
            <a:srgbClr val="ffff99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spcBef>
                <a:spcPts val="125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:  áp suất hơi bão hòa của A ở hai trạng thá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spcBef>
                <a:spcPts val="125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t,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t,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áp suất tổng hai trạng thái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AutoShape 4"/>
          <p:cNvSpPr/>
          <p:nvPr/>
        </p:nvSpPr>
        <p:spPr>
          <a:xfrm>
            <a:off x="777960" y="806400"/>
            <a:ext cx="8339040" cy="1103400"/>
          </a:xfrm>
          <a:prstGeom prst="roundRect">
            <a:avLst>
              <a:gd name="adj" fmla="val 21667"/>
            </a:avLst>
          </a:prstGeom>
          <a:gradFill rotWithShape="0">
            <a:gsLst>
              <a:gs pos="0">
                <a:srgbClr val="95ff95"/>
              </a:gs>
              <a:gs pos="100000">
                <a:srgbClr val="e1ffe1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5.4. Ảnh hưởng áp suất tổng đến áp suất hơi bão hò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gradFill rotWithShape="0">
            <a:gsLst>
              <a:gs pos="0">
                <a:srgbClr val="95ff95"/>
              </a:gs>
              <a:gs pos="100000">
                <a:srgbClr val="e1ffe1"/>
              </a:gs>
            </a:gsLst>
            <a:lin ang="16200000"/>
          </a:gradFill>
          <a:ln w="9360">
            <a:solidFill>
              <a:srgbClr val="2ecb2e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0a0"/>
                </a:solidFill>
                <a:latin typeface="Arial"/>
              </a:rPr>
              <a:t>Bài tập về phương trình</a:t>
            </a:r>
            <a:br>
              <a:rPr sz="3600"/>
            </a:br>
            <a:r>
              <a:rPr b="1" lang="en-US" sz="3600" spc="-1" strike="noStrike">
                <a:solidFill>
                  <a:srgbClr val="7030a0"/>
                </a:solidFill>
                <a:latin typeface="Arial"/>
              </a:rPr>
              <a:t>C-C I và C-C II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207" name="Slide Number Placeholder 4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ABE5A-B57D-46C4-9E63-FCB14B2FE0A6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Rectangle 4"/>
          <p:cNvSpPr/>
          <p:nvPr/>
        </p:nvSpPr>
        <p:spPr>
          <a:xfrm>
            <a:off x="1459080" y="2759040"/>
            <a:ext cx="6242040" cy="2230560"/>
          </a:xfrm>
          <a:prstGeom prst="rect">
            <a:avLst/>
          </a:prstGeom>
          <a:solidFill>
            <a:srgbClr val="0aff0a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ài tập trắc nghiệ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22 – 223 – 224 – 225 – 226 - 231 – 240 – 241 – 242 – 243 – 244 – 245 – 248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Slide Number Placeholder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2910D-58F4-43BB-B20D-463F457C9157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6330600" y="3684240"/>
            <a:ext cx="2624040" cy="757080"/>
          </a:xfrm>
          <a:prstGeom prst="rect">
            <a:avLst/>
          </a:prstGeom>
          <a:solidFill>
            <a:srgbClr val="e085ff"/>
          </a:solidFill>
          <a:ln w="9360">
            <a:solidFill>
              <a:srgbClr val="000000"/>
            </a:solidFill>
            <a:miter/>
          </a:ln>
        </p:spPr>
        <p:txBody>
          <a:bodyPr anchor="b">
            <a:norm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iản đồ pha của nướ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4" descr=""/>
          <p:cNvPicPr/>
          <p:nvPr/>
        </p:nvPicPr>
        <p:blipFill>
          <a:blip r:embed="rId1"/>
          <a:stretch/>
        </p:blipFill>
        <p:spPr>
          <a:xfrm>
            <a:off x="660240" y="1747800"/>
            <a:ext cx="5585040" cy="5110200"/>
          </a:xfrm>
          <a:prstGeom prst="rect">
            <a:avLst/>
          </a:prstGeom>
          <a:ln w="0">
            <a:noFill/>
          </a:ln>
        </p:spPr>
      </p:pic>
      <p:sp>
        <p:nvSpPr>
          <p:cNvPr id="212" name="AutoShape 4"/>
          <p:cNvSpPr/>
          <p:nvPr/>
        </p:nvSpPr>
        <p:spPr>
          <a:xfrm>
            <a:off x="898560" y="861840"/>
            <a:ext cx="8056440" cy="722520"/>
          </a:xfrm>
          <a:prstGeom prst="roundRect">
            <a:avLst>
              <a:gd name="adj" fmla="val 21667"/>
            </a:avLst>
          </a:prstGeom>
          <a:gradFill rotWithShape="0">
            <a:gsLst>
              <a:gs pos="0">
                <a:srgbClr val="95ff95"/>
              </a:gs>
              <a:gs pos="100000">
                <a:srgbClr val="e1ffe1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5.5. Một số giản độ pha hệ 1cấu tử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Slide Number Placeholder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636B1-A9C2-4AFB-9FAF-ABB58967B83F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2592360" y="1936440"/>
            <a:ext cx="3867120" cy="420840"/>
          </a:xfrm>
          <a:prstGeom prst="rect">
            <a:avLst/>
          </a:prstGeom>
          <a:solidFill>
            <a:srgbClr val="e085ff"/>
          </a:solidFill>
          <a:ln w="9360">
            <a:solidFill>
              <a:srgbClr val="000000"/>
            </a:solidFill>
            <a:miter/>
          </a:ln>
        </p:spPr>
        <p:txBody>
          <a:bodyPr anchor="b">
            <a:norm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iản đồ pha của nướ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5"/>
          <p:cNvSpPr/>
          <p:nvPr/>
        </p:nvSpPr>
        <p:spPr>
          <a:xfrm>
            <a:off x="3319560" y="2487600"/>
            <a:ext cx="2100240" cy="459720"/>
          </a:xfrm>
          <a:prstGeom prst="rect">
            <a:avLst/>
          </a:prstGeom>
          <a:solidFill>
            <a:srgbClr val="ffff99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Phân tí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 Box 6"/>
          <p:cNvSpPr/>
          <p:nvPr/>
        </p:nvSpPr>
        <p:spPr>
          <a:xfrm>
            <a:off x="1244520" y="3156120"/>
            <a:ext cx="7394760" cy="3515040"/>
          </a:xfrm>
          <a:prstGeom prst="rect">
            <a:avLst/>
          </a:prstGeom>
          <a:noFill/>
          <a:ln w="316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. Ba miền: AOB – rắn, BOC – lỏng và AOC – hơ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. Ba đường cân bằng: OA: cân bằng rắn – hơi: đường thăng hoa, OB: cân bằng rắn-lỏng: đường nóng chảy và OC: cân bằng lỏng – hơi: đường bay hơ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. Điểm ba O: cân bằng ba pha rắn – lỏng – hơ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. Đường OC’ – đường chậm đông hay đường quá lạnh tức là dưới điều kiện mà vẫn chưa kết tinh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. Điểm C (374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, 218atm) – điểm tới hạn: nghhĩa là khi T&gt;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hì sự chuyển pha là liên tục không có giới hạn phân chia ph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AutoShape 4"/>
          <p:cNvSpPr/>
          <p:nvPr/>
        </p:nvSpPr>
        <p:spPr>
          <a:xfrm>
            <a:off x="898560" y="861840"/>
            <a:ext cx="8056440" cy="722520"/>
          </a:xfrm>
          <a:prstGeom prst="roundRect">
            <a:avLst>
              <a:gd name="adj" fmla="val 21667"/>
            </a:avLst>
          </a:prstGeom>
          <a:gradFill rotWithShape="0">
            <a:gsLst>
              <a:gs pos="0">
                <a:srgbClr val="95ff95"/>
              </a:gs>
              <a:gs pos="100000">
                <a:srgbClr val="e1ffe1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5.5. Một số giản độ pha hệ 1cấu tử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Slide Number Placeholder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816A6-9765-4988-9D02-2F1AF7EBC19B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5992920" y="3251160"/>
            <a:ext cx="2922480" cy="757440"/>
          </a:xfrm>
          <a:prstGeom prst="rect">
            <a:avLst/>
          </a:prstGeom>
          <a:solidFill>
            <a:srgbClr val="e085ff"/>
          </a:solidFill>
          <a:ln w="9360">
            <a:solidFill>
              <a:srgbClr val="000000"/>
            </a:solidFill>
            <a:miter/>
          </a:ln>
        </p:spPr>
        <p:txBody>
          <a:bodyPr anchor="b">
            <a:norm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iản đồ pha của lưu huỳn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6" descr=""/>
          <p:cNvPicPr/>
          <p:nvPr/>
        </p:nvPicPr>
        <p:blipFill>
          <a:blip r:embed="rId1"/>
          <a:stretch/>
        </p:blipFill>
        <p:spPr>
          <a:xfrm>
            <a:off x="530280" y="1801800"/>
            <a:ext cx="5118120" cy="5030640"/>
          </a:xfrm>
          <a:prstGeom prst="rect">
            <a:avLst/>
          </a:prstGeom>
          <a:ln w="0">
            <a:noFill/>
          </a:ln>
        </p:spPr>
      </p:pic>
      <p:sp>
        <p:nvSpPr>
          <p:cNvPr id="221" name="AutoShape 4"/>
          <p:cNvSpPr/>
          <p:nvPr/>
        </p:nvSpPr>
        <p:spPr>
          <a:xfrm>
            <a:off x="830160" y="861840"/>
            <a:ext cx="8058240" cy="722520"/>
          </a:xfrm>
          <a:prstGeom prst="roundRect">
            <a:avLst>
              <a:gd name="adj" fmla="val 21667"/>
            </a:avLst>
          </a:prstGeom>
          <a:gradFill rotWithShape="0">
            <a:gsLst>
              <a:gs pos="0">
                <a:srgbClr val="95ff95"/>
              </a:gs>
              <a:gs pos="100000">
                <a:srgbClr val="e1ffe1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5.5. Một số giản độ pha hệ 1cấu tử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Slide Number Placeholder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E8856-9236-47D7-AB07-E66F66EF8B9F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2295000" y="1839600"/>
            <a:ext cx="5062680" cy="420840"/>
          </a:xfrm>
          <a:prstGeom prst="rect">
            <a:avLst/>
          </a:prstGeom>
          <a:solidFill>
            <a:srgbClr val="e085ff"/>
          </a:solidFill>
          <a:ln w="9360">
            <a:solidFill>
              <a:srgbClr val="000000"/>
            </a:solidFill>
            <a:miter/>
          </a:ln>
        </p:spPr>
        <p:txBody>
          <a:bodyPr anchor="b">
            <a:norm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iản đồ pha của lưu huỳn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5"/>
          <p:cNvSpPr/>
          <p:nvPr/>
        </p:nvSpPr>
        <p:spPr>
          <a:xfrm>
            <a:off x="3319560" y="2487600"/>
            <a:ext cx="2100240" cy="459720"/>
          </a:xfrm>
          <a:prstGeom prst="rect">
            <a:avLst/>
          </a:prstGeom>
          <a:solidFill>
            <a:srgbClr val="ffff99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Phân tí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6"/>
          <p:cNvSpPr/>
          <p:nvPr/>
        </p:nvSpPr>
        <p:spPr>
          <a:xfrm>
            <a:off x="1455840" y="3309840"/>
            <a:ext cx="6986520" cy="2399760"/>
          </a:xfrm>
          <a:prstGeom prst="rect">
            <a:avLst/>
          </a:prstGeom>
          <a:noFill/>
          <a:ln w="316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. Lưu huỳnh rắn tồn tại hai dạng trực thoi và đơn tà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. Các đường nét liền mô tả cân bằng bền giữa các pha còn các đường nét đứt mô tả cân bằng không bề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. Vùng bền: 4 vùng (rắn 1, rắn 2, lỏng và khí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. Điểm A, B, và C: là điểm ba bền; O là điểm ba không bền. K là điểm tới hạ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AutoShape 4"/>
          <p:cNvSpPr/>
          <p:nvPr/>
        </p:nvSpPr>
        <p:spPr>
          <a:xfrm>
            <a:off x="898560" y="861840"/>
            <a:ext cx="8056440" cy="722520"/>
          </a:xfrm>
          <a:prstGeom prst="roundRect">
            <a:avLst>
              <a:gd name="adj" fmla="val 21667"/>
            </a:avLst>
          </a:prstGeom>
          <a:gradFill rotWithShape="0">
            <a:gsLst>
              <a:gs pos="0">
                <a:srgbClr val="95ff95"/>
              </a:gs>
              <a:gs pos="100000">
                <a:srgbClr val="e1ffe1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5.5. Một số giản độ pha hệ 1cấu tử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Slide Number Placeholder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566FD-381E-4C98-B3B8-DFB67BFBA769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1856880" y="1839600"/>
            <a:ext cx="5653080" cy="420840"/>
          </a:xfrm>
          <a:prstGeom prst="rect">
            <a:avLst/>
          </a:prstGeom>
          <a:solidFill>
            <a:srgbClr val="e085ff"/>
          </a:solidFill>
          <a:ln w="9360">
            <a:solidFill>
              <a:srgbClr val="000000"/>
            </a:solidFill>
            <a:miter/>
          </a:ln>
        </p:spPr>
        <p:txBody>
          <a:bodyPr anchor="b">
            <a:norm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iản đồ pha của cacb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4" descr="Dra-kcuong1"/>
          <p:cNvPicPr/>
          <p:nvPr/>
        </p:nvPicPr>
        <p:blipFill>
          <a:blip r:embed="rId1"/>
          <a:stretch/>
        </p:blipFill>
        <p:spPr>
          <a:xfrm>
            <a:off x="1074600" y="2460600"/>
            <a:ext cx="7705800" cy="4162320"/>
          </a:xfrm>
          <a:prstGeom prst="rect">
            <a:avLst/>
          </a:prstGeom>
          <a:ln w="0">
            <a:noFill/>
          </a:ln>
        </p:spPr>
      </p:pic>
      <p:sp>
        <p:nvSpPr>
          <p:cNvPr id="230" name="AutoShape 4"/>
          <p:cNvSpPr/>
          <p:nvPr/>
        </p:nvSpPr>
        <p:spPr>
          <a:xfrm>
            <a:off x="898560" y="861840"/>
            <a:ext cx="8056440" cy="722520"/>
          </a:xfrm>
          <a:prstGeom prst="roundRect">
            <a:avLst>
              <a:gd name="adj" fmla="val 21667"/>
            </a:avLst>
          </a:prstGeom>
          <a:gradFill rotWithShape="0">
            <a:gsLst>
              <a:gs pos="0">
                <a:srgbClr val="95ff95"/>
              </a:gs>
              <a:gs pos="100000">
                <a:srgbClr val="e1ffe1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5.5. Một số giản độ pha hệ 1cấu tử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Slide Number Placeholder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863A1-BD3E-41B6-A65B-3AE0EDD3B7B9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1953720" y="1881000"/>
            <a:ext cx="5653080" cy="420840"/>
          </a:xfrm>
          <a:prstGeom prst="rect">
            <a:avLst/>
          </a:prstGeom>
          <a:solidFill>
            <a:srgbClr val="e085ff"/>
          </a:solidFill>
          <a:ln w="9360">
            <a:solidFill>
              <a:srgbClr val="000000"/>
            </a:solidFill>
            <a:miter/>
          </a:ln>
        </p:spPr>
        <p:txBody>
          <a:bodyPr anchor="b">
            <a:norm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iản đồ pha của cacb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5"/>
          <p:cNvSpPr/>
          <p:nvPr/>
        </p:nvSpPr>
        <p:spPr>
          <a:xfrm>
            <a:off x="3305160" y="2614680"/>
            <a:ext cx="2100240" cy="459720"/>
          </a:xfrm>
          <a:prstGeom prst="rect">
            <a:avLst/>
          </a:prstGeom>
          <a:solidFill>
            <a:srgbClr val="ffff99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Phân tí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Text Box 6"/>
          <p:cNvSpPr/>
          <p:nvPr/>
        </p:nvSpPr>
        <p:spPr>
          <a:xfrm>
            <a:off x="1287360" y="3578400"/>
            <a:ext cx="7480440" cy="2234520"/>
          </a:xfrm>
          <a:prstGeom prst="rect">
            <a:avLst/>
          </a:prstGeom>
          <a:noFill/>
          <a:ln w="316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ốn miền: kim cương, Grafit, lỏng và khí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Đường cong AB là đường cân bằng kim cương – Grafit, như vậy về mặt nhiệt động Grafit bền hơn kim cương. Do đó, để chuyển Grafit thành kim cương ở 298K cần P = 2,2.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m. Hoặc 1 điểm nào đó trên giản đồ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AutoShape 4"/>
          <p:cNvSpPr/>
          <p:nvPr/>
        </p:nvSpPr>
        <p:spPr>
          <a:xfrm>
            <a:off x="817560" y="901800"/>
            <a:ext cx="8058240" cy="722160"/>
          </a:xfrm>
          <a:prstGeom prst="roundRect">
            <a:avLst>
              <a:gd name="adj" fmla="val 21667"/>
            </a:avLst>
          </a:prstGeom>
          <a:gradFill rotWithShape="0">
            <a:gsLst>
              <a:gs pos="0">
                <a:srgbClr val="95ff95"/>
              </a:gs>
              <a:gs pos="100000">
                <a:srgbClr val="e1ffe1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5.5. Một số giản độ pha hệ 1cấu tử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Slide Number Placeholder 3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B782F-6D18-4EE0-9B0A-64B1BC4C463E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Rectangle 4"/>
          <p:cNvSpPr/>
          <p:nvPr/>
        </p:nvSpPr>
        <p:spPr>
          <a:xfrm>
            <a:off x="1824120" y="2747880"/>
            <a:ext cx="5583240" cy="1718640"/>
          </a:xfrm>
          <a:prstGeom prst="rect">
            <a:avLst/>
          </a:prstGeom>
          <a:solidFill>
            <a:srgbClr val="0aff0a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ài tập trắc nghiệ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46 – 247 – 249 – 254 – 256 – 258 – 259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AutoShape 4"/>
          <p:cNvSpPr/>
          <p:nvPr/>
        </p:nvSpPr>
        <p:spPr>
          <a:xfrm>
            <a:off x="817560" y="901800"/>
            <a:ext cx="8058240" cy="722160"/>
          </a:xfrm>
          <a:prstGeom prst="roundRect">
            <a:avLst>
              <a:gd name="adj" fmla="val 21667"/>
            </a:avLst>
          </a:prstGeom>
          <a:gradFill rotWithShape="0">
            <a:gsLst>
              <a:gs pos="0">
                <a:srgbClr val="95ff95"/>
              </a:gs>
              <a:gs pos="100000">
                <a:srgbClr val="e1ffe1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5.5. Một số giản độ pha hệ 1cấu tử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Slide Number Placeholder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56F32-2EEF-42E5-8716-1D0F3A200A72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914400" y="2698920"/>
            <a:ext cx="7732800" cy="3271680"/>
          </a:xfrm>
          <a:prstGeom prst="rect">
            <a:avLst/>
          </a:prstGeom>
          <a:solidFill>
            <a:srgbClr val="0aff0a"/>
          </a:solidFill>
          <a:ln w="936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744480"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5.1.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Khái quát về cân bằng pha môt cấu tử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744480"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5.2.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Ảnh hưởng áp suất đến nhiệt độ chuyển ph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744480"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5.3.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Ảnh hưởng của nhiệt độ đến áp suất hơi bão hò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744480"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5.4.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Ảnh hưởng của áp suất tổng đến áp suất hơi bão hò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744480"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5.5.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ột số biểu đồ trạng thái hệ 1 cấu tử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744480"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5.6.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ài tậ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3"/>
          <p:cNvSpPr/>
          <p:nvPr/>
        </p:nvSpPr>
        <p:spPr>
          <a:xfrm>
            <a:off x="2465280" y="1204920"/>
            <a:ext cx="3746520" cy="722160"/>
          </a:xfrm>
          <a:prstGeom prst="roundRect">
            <a:avLst>
              <a:gd name="adj" fmla="val 21667"/>
            </a:avLst>
          </a:prstGeom>
          <a:gradFill rotWithShape="0">
            <a:gsLst>
              <a:gs pos="0">
                <a:srgbClr val="fff18e"/>
              </a:gs>
              <a:gs pos="100000">
                <a:srgbClr val="fffad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Nội du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456B8-154D-4EBA-B88D-B706033DB450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1611360" y="2990880"/>
            <a:ext cx="6586560" cy="3225600"/>
          </a:xfrm>
          <a:prstGeom prst="rect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8040" indent="-3380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ệ 1 cấu tử gồm một chất nguyên chấ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ân bằng pha hệ một cấu tử là cân bằng giữa các trạng thái tập hợp của chất đó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ự thay đổi pha bao giờ cũng kèm theo sự thay đổi tính chất của hệ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ạng thái của hệ được xác định bởi ba thông số P, T, 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AutoShape 4"/>
          <p:cNvSpPr/>
          <p:nvPr/>
        </p:nvSpPr>
        <p:spPr>
          <a:xfrm>
            <a:off x="790560" y="1023840"/>
            <a:ext cx="8058240" cy="720720"/>
          </a:xfrm>
          <a:prstGeom prst="roundRect">
            <a:avLst>
              <a:gd name="adj" fmla="val 21667"/>
            </a:avLst>
          </a:prstGeom>
          <a:gradFill rotWithShape="0">
            <a:gsLst>
              <a:gs pos="0">
                <a:srgbClr val="95ff95"/>
              </a:gs>
              <a:gs pos="100000">
                <a:srgbClr val="e1ffe1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5.1. Khái quát CB Pha hệ 1 cấu tử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DF5C8-6E83-413E-8857-E0D4F53E5457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3"/>
          <p:cNvSpPr/>
          <p:nvPr/>
        </p:nvSpPr>
        <p:spPr>
          <a:xfrm>
            <a:off x="912960" y="2416320"/>
            <a:ext cx="412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8040" indent="-3380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Áp dụng quy tắc pha Gibb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4"/>
          <p:cNvSpPr/>
          <p:nvPr/>
        </p:nvSpPr>
        <p:spPr>
          <a:xfrm>
            <a:off x="2907000" y="3051000"/>
            <a:ext cx="38887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 = k - f + 2 = 1 – f + 2 = 3 -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Rectangle 5"/>
          <p:cNvSpPr/>
          <p:nvPr/>
        </p:nvSpPr>
        <p:spPr>
          <a:xfrm>
            <a:off x="969840" y="3906720"/>
            <a:ext cx="7837560" cy="2672640"/>
          </a:xfrm>
          <a:prstGeom prst="rect">
            <a:avLst/>
          </a:prstGeom>
          <a:noFill/>
          <a:ln w="190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8040" indent="-338040" algn="just">
              <a:spcBef>
                <a:spcPts val="1749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Hệ gồm 1 pha nằm cân bằn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c = 3 – 1 = 2 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nghĩa là cả hai thông số bên ngoài thay đổi mà hệ vẫn tồn tại 1 pha trong giới hạn cho phé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 algn="just">
              <a:spcBef>
                <a:spcPts val="1749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Hệ gồm 2 pha nằm cân bằn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c = 3 – 2 = 1 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nghĩa là chỉ 1 trong 2 thông số bên ngoài thay đổi mà hệ vẫn tồn tại trạng thái cân bằng pha trong giới hạn cho phé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 algn="just">
              <a:spcBef>
                <a:spcPts val="1749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Hệ gồm 3 pha nằm cân bằn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c = 3 – 3 = 0 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nghĩa là chỉ có thể tồn tại cân bằng 3 pha khi cả hai thông số bền ngoài không thay đổ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AutoShape 4"/>
          <p:cNvSpPr/>
          <p:nvPr/>
        </p:nvSpPr>
        <p:spPr>
          <a:xfrm>
            <a:off x="790560" y="1023840"/>
            <a:ext cx="8058240" cy="720720"/>
          </a:xfrm>
          <a:prstGeom prst="roundRect">
            <a:avLst>
              <a:gd name="adj" fmla="val 21667"/>
            </a:avLst>
          </a:prstGeom>
          <a:gradFill rotWithShape="0">
            <a:gsLst>
              <a:gs pos="0">
                <a:srgbClr val="95ff95"/>
              </a:gs>
              <a:gs pos="100000">
                <a:srgbClr val="e1ffe1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5.1. Khái quát CB Pha hệ 1 cấu tử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Slide Number Placeholder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DC4D5-15AA-4015-A828-FF77F06CE7AC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6"/>
          <p:cNvSpPr/>
          <p:nvPr/>
        </p:nvSpPr>
        <p:spPr>
          <a:xfrm>
            <a:off x="966960" y="2419200"/>
            <a:ext cx="7554600" cy="1350000"/>
          </a:xfrm>
          <a:prstGeom prst="rect">
            <a:avLst/>
          </a:prstGeom>
          <a:noFill/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Đối với hệ 1 cấu tử, quá trình chuyển pha phụ thuộc vào nhiệt độ và áp suấ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ối quan hệ này được thiết lập bởi phương trình Clapeyron-Clausiu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Object 8"/>
              <p:cNvSpPr txBox="1"/>
              <p:nvPr/>
            </p:nvSpPr>
            <p:spPr>
              <a:xfrm>
                <a:off x="2649600" y="4608360"/>
                <a:ext cx="1677960" cy="86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ΔV</m:t>
                        </m:r>
                      </m:num>
                      <m:den>
                        <m:r>
                          <m:t xml:space="preserve">λ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0" name="Rectangle 10"/>
          <p:cNvSpPr/>
          <p:nvPr/>
        </p:nvSpPr>
        <p:spPr>
          <a:xfrm>
            <a:off x="4656240" y="4278240"/>
            <a:ext cx="3065400" cy="1326240"/>
          </a:xfrm>
          <a:prstGeom prst="rect">
            <a:avLst/>
          </a:prstGeom>
          <a:solidFill>
            <a:srgbClr val="ffff99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 :  Nhiệt độ tuyệt đố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: biến thiên thể tí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nhiệt chuyển ph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11"/>
          <p:cNvSpPr/>
          <p:nvPr/>
        </p:nvSpPr>
        <p:spPr>
          <a:xfrm>
            <a:off x="1782360" y="6161040"/>
            <a:ext cx="723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Hệ thức này gọi là phương trình Clapeyron-Clausius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AutoShape 12"/>
          <p:cNvSpPr/>
          <p:nvPr/>
        </p:nvSpPr>
        <p:spPr>
          <a:xfrm>
            <a:off x="912960" y="6203880"/>
            <a:ext cx="788760" cy="422280"/>
          </a:xfrm>
          <a:prstGeom prst="rightArrow">
            <a:avLst>
              <a:gd name="adj1" fmla="val 50000"/>
              <a:gd name="adj2" fmla="val 46697"/>
            </a:avLst>
          </a:prstGeom>
          <a:solidFill>
            <a:srgbClr val="ff0000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AutoShape 4"/>
          <p:cNvSpPr/>
          <p:nvPr/>
        </p:nvSpPr>
        <p:spPr>
          <a:xfrm>
            <a:off x="790560" y="806400"/>
            <a:ext cx="8231040" cy="1103400"/>
          </a:xfrm>
          <a:prstGeom prst="roundRect">
            <a:avLst>
              <a:gd name="adj" fmla="val 21667"/>
            </a:avLst>
          </a:prstGeom>
          <a:gradFill rotWithShape="0">
            <a:gsLst>
              <a:gs pos="0">
                <a:srgbClr val="95ff95"/>
              </a:gs>
              <a:gs pos="100000">
                <a:srgbClr val="e1ffe1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5.2. Ảnh hưởng áp suất đến nhiệt độ chuyển ph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Slide Number Placeholder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2CEE6-4A99-4870-B663-73BBA554F9CF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9"/>
          <p:cNvSpPr/>
          <p:nvPr/>
        </p:nvSpPr>
        <p:spPr>
          <a:xfrm>
            <a:off x="1068480" y="2828880"/>
            <a:ext cx="7356240" cy="9716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ếu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 tính ml;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ính cal (1cal = 41,3ml.atm) thì phương trình Clapeyron – Clausius được viết như sau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Object 10"/>
              <p:cNvSpPr txBox="1"/>
              <p:nvPr/>
            </p:nvSpPr>
            <p:spPr>
              <a:xfrm>
                <a:off x="3327480" y="4433760"/>
                <a:ext cx="1879560" cy="97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Δ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1</m:t>
                        </m:r>
                        <m:r>
                          <m:t xml:space="preserve">,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λ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7" name="AutoShape 4"/>
          <p:cNvSpPr/>
          <p:nvPr/>
        </p:nvSpPr>
        <p:spPr>
          <a:xfrm>
            <a:off x="790560" y="806400"/>
            <a:ext cx="8231040" cy="1103400"/>
          </a:xfrm>
          <a:prstGeom prst="roundRect">
            <a:avLst>
              <a:gd name="adj" fmla="val 21667"/>
            </a:avLst>
          </a:prstGeom>
          <a:gradFill rotWithShape="0">
            <a:gsLst>
              <a:gs pos="0">
                <a:srgbClr val="95ff95"/>
              </a:gs>
              <a:gs pos="100000">
                <a:srgbClr val="e1ffe1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5.2. Ảnh hưởng áp suất đến nhiệt độ chuyển ph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Slide Number Placeholder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82893-9740-4655-8B29-94D7C1ADC248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3"/>
          <p:cNvSpPr/>
          <p:nvPr/>
        </p:nvSpPr>
        <p:spPr>
          <a:xfrm>
            <a:off x="1336680" y="2728800"/>
            <a:ext cx="6708600" cy="9716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Đối vớ hệ ngưng tụ (RẮN – LỎNG) các đại lượng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 ít chịu ảnh hưởng bởi áp suất do đó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" name="Object 4"/>
              <p:cNvSpPr txBox="1"/>
              <p:nvPr/>
            </p:nvSpPr>
            <p:spPr>
              <a:xfrm>
                <a:off x="1782720" y="4334040"/>
                <a:ext cx="1876320" cy="97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ΔV</m:t>
                        </m:r>
                      </m:num>
                      <m:den>
                        <m:r>
                          <m:t xml:space="preserve">λ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1" name="AutoShape 7"/>
          <p:cNvSpPr/>
          <p:nvPr/>
        </p:nvSpPr>
        <p:spPr>
          <a:xfrm>
            <a:off x="4375080" y="4557600"/>
            <a:ext cx="858960" cy="563760"/>
          </a:xfrm>
          <a:prstGeom prst="rightArrow">
            <a:avLst>
              <a:gd name="adj1" fmla="val 50000"/>
              <a:gd name="adj2" fmla="val 38091"/>
            </a:avLst>
          </a:prstGeom>
          <a:solidFill>
            <a:srgbClr val="ff6600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" name="Object 10"/>
              <p:cNvSpPr txBox="1"/>
              <p:nvPr/>
            </p:nvSpPr>
            <p:spPr>
              <a:xfrm>
                <a:off x="5875200" y="4334040"/>
                <a:ext cx="1909800" cy="97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ΔT</m:t>
                        </m:r>
                      </m:num>
                      <m:den>
                        <m:r>
                          <m:t xml:space="preserve">ΔP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ΔV</m:t>
                        </m:r>
                      </m:num>
                      <m:den>
                        <m:r>
                          <m:t xml:space="preserve">λ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3" name="AutoShape 4"/>
          <p:cNvSpPr/>
          <p:nvPr/>
        </p:nvSpPr>
        <p:spPr>
          <a:xfrm>
            <a:off x="790560" y="806400"/>
            <a:ext cx="8231040" cy="1103400"/>
          </a:xfrm>
          <a:prstGeom prst="roundRect">
            <a:avLst>
              <a:gd name="adj" fmla="val 21667"/>
            </a:avLst>
          </a:prstGeom>
          <a:gradFill rotWithShape="0">
            <a:gsLst>
              <a:gs pos="0">
                <a:srgbClr val="95ff95"/>
              </a:gs>
              <a:gs pos="100000">
                <a:srgbClr val="e1ffe1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5.2. Ảnh hưởng áp suất đến nhiệt độ chuyển ph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Slide Number Placeholder 6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8AED3-FA1B-4C51-9A74-4F1A819622B8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22"/>
          <p:cNvSpPr/>
          <p:nvPr/>
        </p:nvSpPr>
        <p:spPr>
          <a:xfrm>
            <a:off x="7075440" y="4473720"/>
            <a:ext cx="2054160" cy="2195280"/>
          </a:xfrm>
          <a:prstGeom prst="rect">
            <a:avLst/>
          </a:prstGeom>
          <a:solidFill>
            <a:srgbClr val="ccffff"/>
          </a:solidFill>
          <a:ln w="3816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723960" y="2448000"/>
            <a:ext cx="8305920" cy="178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ô hình xảy r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ỏng              hơi  +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h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ắn               hơi  +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Áp dụng phương trình Claypeyron – Clausius I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Object 5"/>
              <p:cNvSpPr txBox="1"/>
              <p:nvPr/>
            </p:nvSpPr>
            <p:spPr>
              <a:xfrm>
                <a:off x="4397400" y="4578480"/>
                <a:ext cx="137016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λ</m:t>
                        </m:r>
                      </m:num>
                      <m:den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ΔV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8" name="Line 7"/>
          <p:cNvSpPr/>
          <p:nvPr/>
        </p:nvSpPr>
        <p:spPr>
          <a:xfrm>
            <a:off x="3502080" y="3139920"/>
            <a:ext cx="592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Line 8"/>
          <p:cNvSpPr/>
          <p:nvPr/>
        </p:nvSpPr>
        <p:spPr>
          <a:xfrm flipH="1">
            <a:off x="3489120" y="3251160"/>
            <a:ext cx="617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Line 9"/>
          <p:cNvSpPr/>
          <p:nvPr/>
        </p:nvSpPr>
        <p:spPr>
          <a:xfrm>
            <a:off x="3517920" y="3470400"/>
            <a:ext cx="592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Line 10"/>
          <p:cNvSpPr/>
          <p:nvPr/>
        </p:nvSpPr>
        <p:spPr>
          <a:xfrm flipH="1">
            <a:off x="3504960" y="3581280"/>
            <a:ext cx="617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11"/>
          <p:cNvSpPr/>
          <p:nvPr/>
        </p:nvSpPr>
        <p:spPr>
          <a:xfrm>
            <a:off x="1055520" y="5688000"/>
            <a:ext cx="58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à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" name="Object 14"/>
              <p:cNvSpPr txBox="1"/>
              <p:nvPr/>
            </p:nvSpPr>
            <p:spPr>
              <a:xfrm>
                <a:off x="4352760" y="5562720"/>
                <a:ext cx="171324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V</m:t>
                    </m:r>
                    <m:r>
                      <m:t xml:space="preserve">≈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RT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4" name="Text Box 15"/>
          <p:cNvSpPr/>
          <p:nvPr/>
        </p:nvSpPr>
        <p:spPr>
          <a:xfrm>
            <a:off x="1832400" y="5708520"/>
            <a:ext cx="2480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 =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hơ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–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lỏng(rắn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AutoShape 16"/>
          <p:cNvSpPr/>
          <p:nvPr/>
        </p:nvSpPr>
        <p:spPr>
          <a:xfrm>
            <a:off x="6019920" y="4219560"/>
            <a:ext cx="828720" cy="2067120"/>
          </a:xfrm>
          <a:prstGeom prst="rightArrow">
            <a:avLst>
              <a:gd name="adj1" fmla="val 50000"/>
              <a:gd name="adj2" fmla="val 25000"/>
            </a:avLst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à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Object 19"/>
              <p:cNvSpPr txBox="1"/>
              <p:nvPr/>
            </p:nvSpPr>
            <p:spPr>
              <a:xfrm>
                <a:off x="7086600" y="4876920"/>
                <a:ext cx="1590840" cy="73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λ</m:t>
                        </m:r>
                      </m:num>
                      <m:den>
                        <m:r>
                          <m:t xml:space="preserve">R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" name="Object 20"/>
              <p:cNvSpPr txBox="1"/>
              <p:nvPr/>
            </p:nvSpPr>
            <p:spPr>
              <a:xfrm>
                <a:off x="7074000" y="5842080"/>
                <a:ext cx="2055600" cy="7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</m:t>
                        </m:r>
                        <m:r>
                          <m:rPr>
                            <m:lit/>
                            <m:nor/>
                          </m:rPr>
                          <m:t xml:space="preserve">lg</m:t>
                        </m:r>
                        <m:r>
                          <m:t xml:space="preserve">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λ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57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8" name="Text Box 21"/>
          <p:cNvSpPr/>
          <p:nvPr/>
        </p:nvSpPr>
        <p:spPr>
          <a:xfrm>
            <a:off x="6392160" y="6095880"/>
            <a:ext cx="549360" cy="3988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23"/>
          <p:cNvSpPr/>
          <p:nvPr/>
        </p:nvSpPr>
        <p:spPr>
          <a:xfrm>
            <a:off x="6133320" y="2637000"/>
            <a:ext cx="294228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ypeyron – Clausius 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AutoShape 24"/>
          <p:cNvSpPr/>
          <p:nvPr/>
        </p:nvSpPr>
        <p:spPr>
          <a:xfrm>
            <a:off x="7272360" y="3220920"/>
            <a:ext cx="1393920" cy="89856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cc99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AutoShape 4"/>
          <p:cNvSpPr/>
          <p:nvPr/>
        </p:nvSpPr>
        <p:spPr>
          <a:xfrm>
            <a:off x="777960" y="806400"/>
            <a:ext cx="8339040" cy="1103400"/>
          </a:xfrm>
          <a:prstGeom prst="roundRect">
            <a:avLst>
              <a:gd name="adj" fmla="val 21667"/>
            </a:avLst>
          </a:prstGeom>
          <a:gradFill rotWithShape="0">
            <a:gsLst>
              <a:gs pos="0">
                <a:srgbClr val="95ff95"/>
              </a:gs>
              <a:gs pos="100000">
                <a:srgbClr val="e1ffe1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5.3. Ảnh hưởng nhiệt độ đến áp suất hơi bão hò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Slide Number Placeholder 6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E933C-21D6-430C-ACE6-01567D603899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1091880" y="2603520"/>
            <a:ext cx="7475400" cy="50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ếu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ay đổi hẹp trong khoảng nhiệt độ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ns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4" name="Object 3"/>
              <p:cNvSpPr txBox="1"/>
              <p:nvPr/>
            </p:nvSpPr>
            <p:spPr>
              <a:xfrm>
                <a:off x="4014720" y="3564000"/>
                <a:ext cx="149076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λ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5" name="AutoShape 11"/>
          <p:cNvSpPr/>
          <p:nvPr/>
        </p:nvSpPr>
        <p:spPr>
          <a:xfrm>
            <a:off x="3911760" y="4683240"/>
            <a:ext cx="1519200" cy="731880"/>
          </a:xfrm>
          <a:prstGeom prst="downArrow">
            <a:avLst>
              <a:gd name="adj1" fmla="val 50000"/>
              <a:gd name="adj2" fmla="val 25000"/>
            </a:avLst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6" name="Group 14"/>
          <p:cNvGrpSpPr/>
          <p:nvPr/>
        </p:nvGrpSpPr>
        <p:grpSpPr>
          <a:xfrm>
            <a:off x="3311640" y="5543640"/>
            <a:ext cx="2855880" cy="1054080"/>
            <a:chOff x="3311640" y="5543640"/>
            <a:chExt cx="2855880" cy="1054080"/>
          </a:xfrm>
        </p:grpSpPr>
        <mc:AlternateContent>
          <mc:Choice xmlns:a14="http://schemas.microsoft.com/office/drawing/2010/main" Requires="a14">
            <p:sp>
              <p:nvSpPr>
                <p:cNvPr id="197" name="Object 9"/>
                <p:cNvSpPr txBox="1"/>
                <p:nvPr/>
              </p:nvSpPr>
              <p:spPr>
                <a:xfrm>
                  <a:off x="3589200" y="5653080"/>
                  <a:ext cx="2414160" cy="826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ln</m:t>
                      </m:r>
                      <m:f>
                        <m:num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  <m:r>
                        <m:t xml:space="preserve">=</m:t>
                      </m:r>
                      <m:r>
                        <m:t xml:space="preserve">−</m:t>
                      </m:r>
                      <m:f>
                        <m:num>
                          <m:r>
                            <m:t xml:space="preserve">λ</m:t>
                          </m:r>
                        </m:num>
                        <m:den>
                          <m:r>
                            <m:t xml:space="preserve">R</m:t>
                          </m:r>
                        </m:den>
                      </m:f>
                      <m:d>
                        <m:dPr>
                          <m:begChr m:val="("/>
                          <m:endChr m:val=")"/>
                        </m:dPr>
                        <m:e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den>
                          </m:f>
                          <m:r>
                            <m:t xml:space="preserve">−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den>
                          </m:f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198" name="Rectangle 12"/>
            <p:cNvSpPr/>
            <p:nvPr/>
          </p:nvSpPr>
          <p:spPr>
            <a:xfrm>
              <a:off x="3311640" y="5543640"/>
              <a:ext cx="2855880" cy="105408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9" name="Rectangle 13"/>
          <p:cNvSpPr/>
          <p:nvPr/>
        </p:nvSpPr>
        <p:spPr>
          <a:xfrm>
            <a:off x="3755880" y="3446640"/>
            <a:ext cx="1785960" cy="942840"/>
          </a:xfrm>
          <a:prstGeom prst="rect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AutoShape 4"/>
          <p:cNvSpPr/>
          <p:nvPr/>
        </p:nvSpPr>
        <p:spPr>
          <a:xfrm>
            <a:off x="777960" y="806400"/>
            <a:ext cx="8339040" cy="1103400"/>
          </a:xfrm>
          <a:prstGeom prst="roundRect">
            <a:avLst>
              <a:gd name="adj" fmla="val 21667"/>
            </a:avLst>
          </a:prstGeom>
          <a:gradFill rotWithShape="0">
            <a:gsLst>
              <a:gs pos="0">
                <a:srgbClr val="95ff95"/>
              </a:gs>
              <a:gs pos="100000">
                <a:srgbClr val="e1ffe1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5.3. Ảnh hưởng nhiệt độ đến áp suất hơi bão hò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6T11:53:40Z</dcterms:created>
  <dc:creator>Quang S.O.S</dc:creator>
  <dc:description>Hoá lý 1</dc:description>
  <dc:language>en-US</dc:language>
  <cp:lastModifiedBy>Quang S.O.S</cp:lastModifiedBy>
  <dcterms:modified xsi:type="dcterms:W3CDTF">2011-05-03T06:52:54Z</dcterms:modified>
  <cp:revision>344</cp:revision>
  <dc:subject/>
  <dc:title>Chương 5. Cân bằng pha hệ 1 cấu tử </dc:title>
</cp:coreProperties>
</file>